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applause.wav" ContentType="audio/x-wav"/>
  <Override PartName="/ppt/media/image16.png" ContentType="image/png"/>
  <Override PartName="/ppt/media/drumroll.wav" ContentType="audio/x-wav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0FE2-5E04-4CFB-B277-6A127DD0D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96C2-0897-41D3-810B-9323F52B3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647-6B45-4384-911F-DA918E7A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3AF-C31A-439C-AC64-5E905A10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FE6-3657-4ECF-BD34-6F352B11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0FB-EC18-4E9F-901B-0823FD44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0083-C205-4B12-BE81-07A6E12E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F545-A165-4E34-9F5B-5B86AC9C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B185-8427-4105-A704-CE988655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AAA9-0A0F-477C-9645-2FB8510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DF5F-013B-4F32-AA9D-9728921A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346A-BC08-45F1-9B3A-CF54856E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8C6A-1F7C-4B41-B1A4-11EB7369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42A-B13E-4E49-8D1D-EDFA3931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54BF-1510-4738-B59B-238F2E35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D5F0-0B2C-48EE-987A-679BE631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7795-F593-4ED3-BFBA-51A2C41C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ED22-63C9-4592-BE48-CE266102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1C4E-10EF-4DE4-B1A1-14F1EA15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E8D0-E9C3-40FD-AC04-DB966095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5A73-76A2-449B-A563-4F1126D0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8E3E-AA26-4B7F-94BE-BE8D9954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E2371-39C4-4981-87B9-B6B4E317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8FEA-0F5F-4CAB-8A81-931366C7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F48-0C0C-4C60-8799-F5092E66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01EB-FE87-4C09-B1B3-A2D9018E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0BB1-F8B7-4783-BA5E-B891C72A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438C-4383-4879-8943-BB014CA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1079-EDE7-4F1A-B58C-5EB99B41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E813-0F74-4113-810F-6D9C4718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EC4A-B90A-464A-88AA-A8D11096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FFF6-A0DF-4433-BEC3-D5A527EA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2222-EC63-4F79-A61D-02C916E5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F53B-8ACF-4E89-9B5F-ECC74698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7CEF-DC80-4A7A-B964-8F8184A5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980-0544-4184-ADC3-8AF55EC2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2D62-2274-425D-B674-7D85AFD1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6EA9-8C39-48B5-9708-06D37249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84C22-C14A-4088-83D5-BBE402E2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D00F-446B-479D-9E3B-77951BD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9865A-051D-4119-B65D-7C2D18EA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000C-5A08-4914-BDAC-0B9ED4B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6482A-51B1-4260-8CC7-5601DCE7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6E85D-A88A-4D4E-9118-865F9537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80FDF-4ABA-40D4-8DB5-B20BA61A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1D3-EB13-4980-A314-DD41B090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2D0-7232-4D52-B65B-255A02B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80F-02A8-402D-AE75-6F020FC3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9B3-8D7D-4AEE-89F0-8ABF081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0F0-FD6F-44E6-BD12-D80D01DD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885B-6733-4A16-A07E-F1B7E71946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2C64-70EB-4216-86AD-F8F8F3A519D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1EFD-94AD-45A9-A42D-38579824DEC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DCC4-F181-4208-BACE-DE5A1F067C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’</a:t>
            </a: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5000">
    <p:wheel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603360" y="1725480"/>
            <a:ext cx="7864200" cy="27003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0000">
    <p:wheel/>
    <p:sndAc>
      <p:stSnd>
        <p:snd r:embed="rId2" name="applause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tatistic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a - 17,098,242 sq k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- 139,390,20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erage age- 38.5 years ol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employment rate- 8.4 and grow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below poverty line- 15.8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Content Placeholder 4" descr="rs-map.gif"/>
          <p:cNvPicPr/>
          <p:nvPr/>
        </p:nvPicPr>
        <p:blipFill>
          <a:blip r:embed="rId1"/>
          <a:stretch/>
        </p:blipFill>
        <p:spPr>
          <a:xfrm>
            <a:off x="4191120" y="2438280"/>
            <a:ext cx="4647960" cy="327672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4240116"/>
          <p:cNvPicPr/>
          <p:nvPr/>
        </p:nvPicPr>
        <p:blipFill>
          <a:blip r:embed="rId1"/>
          <a:stretch/>
        </p:blipFill>
        <p:spPr>
          <a:xfrm>
            <a:off x="3962520" y="441972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1607potatoes"/>
          <p:cNvPicPr/>
          <p:nvPr/>
        </p:nvPicPr>
        <p:blipFill>
          <a:blip r:embed="rId3"/>
          <a:stretch/>
        </p:blipFill>
        <p:spPr>
          <a:xfrm>
            <a:off x="2590920" y="1981080"/>
            <a:ext cx="3047760" cy="2067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Foods produced in Russ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514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ar bee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rl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a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stockphotopro_36014208UKD_no_title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4054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anufacturing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257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manufacturing centers 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in St. Petersburg make light machinery, textiles, and 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trole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04960" y="1904760"/>
            <a:ext cx="51116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208400" y="2209680"/>
            <a:ext cx="3411720" cy="26672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production growth  rate 13.1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als are used to make advanced air crafts, ships , missi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ensive technology include radars, and advanced electronics components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al and scientific industry include textiles, handicrafts, foodstuff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ad and rail transportation include communication equipment, tractors and construction equipmen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ll Russia economy has been going dow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cool\AppData\Local\Microsoft\Windows\Temporary Internet Files\Content.IE5\2IUTAM3Y\MP900390146[1].jpg"/>
          <p:cNvPicPr/>
          <p:nvPr/>
        </p:nvPicPr>
        <p:blipFill>
          <a:blip r:embed="rId1"/>
          <a:stretch/>
        </p:blipFill>
        <p:spPr>
          <a:xfrm>
            <a:off x="5334120" y="1828800"/>
            <a:ext cx="2895480" cy="36576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he  Volga and Urals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82844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lg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ries almost one-half of Russia’s river traff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 provides water for irrigation and for hydroelectric pow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home of Russia’s most productive farmlan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r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ers mine bauxite for aluminum, copper, gold, lead and 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energy resources such as coal, oil, and 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10000">
    <p:wheel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cow  is Russia’s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ort c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ter is frozen are the ports so transportation is har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the other port cities trade bring goods to Russ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12" descr="news-StPetersburgAnnounced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Users\cool\AppData\Local\Microsoft\Windows\Temporary Internet Files\Content.IE5\T29BWV2O\MM900283225[1].gif"/>
          <p:cNvPicPr/>
          <p:nvPr/>
        </p:nvPicPr>
        <p:blipFill>
          <a:blip r:embed="rId2"/>
          <a:stretch/>
        </p:blipFill>
        <p:spPr>
          <a:xfrm>
            <a:off x="2971800" y="548640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p:transition advTm="10000">
    <p:wheel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cool</cp:lastModifiedBy>
  <dcterms:modified xsi:type="dcterms:W3CDTF">2010-12-21T02:08:27Z</dcterms:modified>
  <cp:revision>47</cp:revision>
  <dc:subject/>
  <dc:title>Economy</dc:title>
</cp:coreProperties>
</file>